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7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6.jpeg" ContentType="image/jpe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8AC-D3D7-4D28-9E47-F3CB4BD5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3AB-9C12-401F-AE0E-6A7CF34C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568-88F5-4978-99AE-84677CBD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B5D7-FDB0-4EA1-BB54-4E1B0B53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EBE9-EA56-4406-B8F6-FF0DC338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9802-300A-47D8-90AF-BEFAC6F5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6AF8-9BDE-4D4E-B9F4-7100F975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A914-9290-4D8F-9042-0CF257A3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AAA4-8702-4925-B4CB-B32C008B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5CA1-8A6A-4F16-B5E7-0585E70E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A175-11FE-4AE9-A152-E5496804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AC6-E22D-49AF-82CE-FBDE071B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2DE3-C21E-4586-AAD7-1B73F3C7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EED9-5FA7-4FD8-81B2-BB581208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8AC1-F15C-4798-9642-42BCC474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C341-548B-4EA3-B510-08EC5269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5E7B-9CF1-421E-A8EE-E8437DEF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D9F-9F3D-4AF8-AE33-0110CE84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BB1-C8D9-4F24-9706-78D4A723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F53-628F-4F4F-B65F-52A1A402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38D-441E-4FB2-AF59-8D25E58C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AE7-A118-4908-8484-B57A8AA3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688-60F1-4CC8-86EA-6B14926C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B92-0CBD-4E90-8E25-710F06FC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75E7-328A-4DC0-8367-71FADC96257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7222-64A0-4FFE-94A3-3B14F8CFD67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18288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兰州市外国语学校现代技术教学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9718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000——200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学年度第二学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BD05219_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.Exercise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’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B    C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I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e thr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l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                 B           C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T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e so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an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B       C          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Would you lik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ome cak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 cu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ange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   B            C             D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Plea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i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 B     C     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914400"/>
            <a:ext cx="76176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.Ask and answer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533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14400" y="2057400"/>
            <a:ext cx="2190600" cy="573120"/>
            <a:chOff x="914400" y="2057400"/>
            <a:chExt cx="2190600" cy="573120"/>
          </a:xfrm>
        </p:grpSpPr>
        <p:pic>
          <p:nvPicPr>
            <p:cNvPr id="180" name="苹果" descr=""/>
            <p:cNvPicPr/>
            <p:nvPr/>
          </p:nvPicPr>
          <p:blipFill>
            <a:blip r:embed="rId1"/>
            <a:stretch/>
          </p:blipFill>
          <p:spPr>
            <a:xfrm>
              <a:off x="914400" y="2057400"/>
              <a:ext cx="59040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苹果" descr=""/>
            <p:cNvPicPr/>
            <p:nvPr/>
          </p:nvPicPr>
          <p:blipFill>
            <a:blip r:embed="rId2"/>
            <a:stretch/>
          </p:blipFill>
          <p:spPr>
            <a:xfrm>
              <a:off x="1447920" y="2057400"/>
              <a:ext cx="59040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苹果" descr=""/>
            <p:cNvPicPr/>
            <p:nvPr/>
          </p:nvPicPr>
          <p:blipFill>
            <a:blip r:embed="rId3"/>
            <a:stretch/>
          </p:blipFill>
          <p:spPr>
            <a:xfrm>
              <a:off x="1981080" y="2057400"/>
              <a:ext cx="59076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苹果" descr=""/>
            <p:cNvPicPr/>
            <p:nvPr/>
          </p:nvPicPr>
          <p:blipFill>
            <a:blip r:embed="rId4"/>
            <a:stretch/>
          </p:blipFill>
          <p:spPr>
            <a:xfrm>
              <a:off x="2514600" y="2057400"/>
              <a:ext cx="590400" cy="57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838080" y="4495680"/>
            <a:ext cx="2211480" cy="814680"/>
            <a:chOff x="838080" y="4495680"/>
            <a:chExt cx="2211480" cy="814680"/>
          </a:xfrm>
        </p:grpSpPr>
        <p:pic>
          <p:nvPicPr>
            <p:cNvPr id="185" name="梨" descr=""/>
            <p:cNvPicPr/>
            <p:nvPr/>
          </p:nvPicPr>
          <p:blipFill>
            <a:blip r:embed="rId5"/>
            <a:stretch/>
          </p:blipFill>
          <p:spPr>
            <a:xfrm>
              <a:off x="838080" y="4495680"/>
              <a:ext cx="611280" cy="8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梨" descr=""/>
            <p:cNvPicPr/>
            <p:nvPr/>
          </p:nvPicPr>
          <p:blipFill>
            <a:blip r:embed="rId6"/>
            <a:stretch/>
          </p:blipFill>
          <p:spPr>
            <a:xfrm>
              <a:off x="1371600" y="4495680"/>
              <a:ext cx="611280" cy="8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梨" descr=""/>
            <p:cNvPicPr/>
            <p:nvPr/>
          </p:nvPicPr>
          <p:blipFill>
            <a:blip r:embed="rId7"/>
            <a:stretch/>
          </p:blipFill>
          <p:spPr>
            <a:xfrm>
              <a:off x="1905120" y="4495680"/>
              <a:ext cx="610920" cy="8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梨" descr=""/>
            <p:cNvPicPr/>
            <p:nvPr/>
          </p:nvPicPr>
          <p:blipFill>
            <a:blip r:embed="rId8"/>
            <a:stretch/>
          </p:blipFill>
          <p:spPr>
            <a:xfrm>
              <a:off x="2438280" y="4495680"/>
              <a:ext cx="611280" cy="81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3505320" y="1600200"/>
            <a:ext cx="5105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 can s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o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pp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41911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can s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o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25146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many apples can you se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257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many pears can you se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3276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can see so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9436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can see fou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.Sentence stress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  pears can you se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e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ba  nanas can you se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  te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  apples can you se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  can’t see   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91440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2096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13372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4100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47242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038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274320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342900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55627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28195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419112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8769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.Spelling and pronunciatio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       w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sh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e         s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j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         t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a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m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9144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AN02131_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2590920" cy="3581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743200" y="31240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: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AN02354_" descr=""/>
          <p:cNvPicPr/>
          <p:nvPr/>
        </p:nvPicPr>
        <p:blipFill>
          <a:blip r:embed="rId1"/>
          <a:stretch/>
        </p:blipFill>
        <p:spPr>
          <a:xfrm>
            <a:off x="457200" y="1876320"/>
            <a:ext cx="1981080" cy="3915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057400" y="23623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e/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1600200"/>
            <a:ext cx="518184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    l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    m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a    br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a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   h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a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Listen and choos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here are Tim and Li Shan ?_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.At school      B.At Li Shan’ home     C.At Tim’s h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Li Shan wants _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.a pear          B.an orange                  C.an ap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3.Tim gives her 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.a piece of bread                  B.two pieces of bread C.three pieces of b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4.Tim gives Li Shan 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.a cup of tea       B.a glass of juice        C.a glass of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83808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5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976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7480" y="3657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6600" y="4952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BD10581_" descr=""/>
          <p:cNvPicPr/>
          <p:nvPr/>
        </p:nvPicPr>
        <p:blipFill>
          <a:blip r:embed="rId1"/>
          <a:srcRect l="58768" t="0" r="0" b="0"/>
          <a:stretch/>
        </p:blipFill>
        <p:spPr>
          <a:xfrm>
            <a:off x="6172200" y="1752480"/>
            <a:ext cx="144936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1143000" y="1981080"/>
            <a:ext cx="2971800" cy="3849840"/>
            <a:chOff x="1143000" y="1981080"/>
            <a:chExt cx="2971800" cy="3849840"/>
          </a:xfrm>
        </p:grpSpPr>
        <p:pic>
          <p:nvPicPr>
            <p:cNvPr id="227" name="PE03752_" descr=""/>
            <p:cNvPicPr/>
            <p:nvPr/>
          </p:nvPicPr>
          <p:blipFill>
            <a:blip r:embed="rId2"/>
            <a:stretch/>
          </p:blipFill>
          <p:spPr>
            <a:xfrm>
              <a:off x="2133720" y="3733920"/>
              <a:ext cx="1469880" cy="20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E03752_" descr=""/>
            <p:cNvPicPr/>
            <p:nvPr/>
          </p:nvPicPr>
          <p:blipFill>
            <a:blip r:embed="rId3"/>
            <a:stretch/>
          </p:blipFill>
          <p:spPr>
            <a:xfrm>
              <a:off x="1143000" y="2362320"/>
              <a:ext cx="139392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BD06858_" descr=""/>
            <p:cNvPicPr/>
            <p:nvPr/>
          </p:nvPicPr>
          <p:blipFill>
            <a:blip r:embed="rId4"/>
            <a:srcRect l="-2117" t="-2044" r="55334" b="0"/>
            <a:stretch/>
          </p:blipFill>
          <p:spPr>
            <a:xfrm>
              <a:off x="2438280" y="1981080"/>
              <a:ext cx="1676520" cy="163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PH02774J" descr=""/>
          <p:cNvPicPr/>
          <p:nvPr/>
        </p:nvPicPr>
        <p:blipFill>
          <a:blip r:embed="rId5"/>
          <a:stretch/>
        </p:blipFill>
        <p:spPr>
          <a:xfrm>
            <a:off x="4038480" y="1066680"/>
            <a:ext cx="23623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Unit 19 Food and drink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Lesson 76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2133720"/>
          <a:ext cx="297180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297180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Daily repor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45720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日历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Everyday English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83808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50840" y="2178000"/>
            <a:ext cx="7864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would you like for breakfa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would you like for lunc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would you li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 supper?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E03478_" descr=""/>
          <p:cNvPicPr/>
          <p:nvPr/>
        </p:nvPicPr>
        <p:blipFill>
          <a:blip r:embed="rId1"/>
          <a:stretch/>
        </p:blipFill>
        <p:spPr>
          <a:xfrm>
            <a:off x="1219320" y="3762360"/>
            <a:ext cx="2438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Find the food and drink wor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30492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4648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3680" y="5987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.Look and say 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80880"/>
            <a:ext cx="609480" cy="60984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梨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98560" cy="11952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1847880" y="1905120"/>
            <a:ext cx="2536920" cy="966600"/>
            <a:chOff x="1847880" y="1905120"/>
            <a:chExt cx="2536920" cy="966600"/>
          </a:xfrm>
        </p:grpSpPr>
        <p:pic>
          <p:nvPicPr>
            <p:cNvPr id="136" name="梨" descr=""/>
            <p:cNvPicPr/>
            <p:nvPr/>
          </p:nvPicPr>
          <p:blipFill>
            <a:blip r:embed="rId2"/>
            <a:stretch/>
          </p:blipFill>
          <p:spPr>
            <a:xfrm>
              <a:off x="1847880" y="1905120"/>
              <a:ext cx="72720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梨" descr=""/>
            <p:cNvPicPr/>
            <p:nvPr/>
          </p:nvPicPr>
          <p:blipFill>
            <a:blip r:embed="rId3"/>
            <a:stretch/>
          </p:blipFill>
          <p:spPr>
            <a:xfrm>
              <a:off x="2438280" y="1905120"/>
              <a:ext cx="72720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梨" descr=""/>
            <p:cNvPicPr/>
            <p:nvPr/>
          </p:nvPicPr>
          <p:blipFill>
            <a:blip r:embed="rId4"/>
            <a:stretch/>
          </p:blipFill>
          <p:spPr>
            <a:xfrm>
              <a:off x="3048120" y="1905120"/>
              <a:ext cx="72684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梨" descr=""/>
            <p:cNvPicPr/>
            <p:nvPr/>
          </p:nvPicPr>
          <p:blipFill>
            <a:blip r:embed="rId5"/>
            <a:stretch/>
          </p:blipFill>
          <p:spPr>
            <a:xfrm>
              <a:off x="3657600" y="1905120"/>
              <a:ext cx="727200" cy="96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苹果" descr=""/>
          <p:cNvPicPr/>
          <p:nvPr/>
        </p:nvPicPr>
        <p:blipFill>
          <a:blip r:embed="rId6"/>
          <a:stretch/>
        </p:blipFill>
        <p:spPr>
          <a:xfrm>
            <a:off x="457200" y="3200400"/>
            <a:ext cx="1066680" cy="12384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828800" y="3429000"/>
            <a:ext cx="2590920" cy="857160"/>
            <a:chOff x="1828800" y="3429000"/>
            <a:chExt cx="2590920" cy="857160"/>
          </a:xfrm>
        </p:grpSpPr>
        <p:pic>
          <p:nvPicPr>
            <p:cNvPr id="142" name="苹果" descr=""/>
            <p:cNvPicPr/>
            <p:nvPr/>
          </p:nvPicPr>
          <p:blipFill>
            <a:blip r:embed="rId7"/>
            <a:stretch/>
          </p:blipFill>
          <p:spPr>
            <a:xfrm>
              <a:off x="1828800" y="3429000"/>
              <a:ext cx="9144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苹果" descr=""/>
            <p:cNvPicPr/>
            <p:nvPr/>
          </p:nvPicPr>
          <p:blipFill>
            <a:blip r:embed="rId8"/>
            <a:stretch/>
          </p:blipFill>
          <p:spPr>
            <a:xfrm>
              <a:off x="2666880" y="3429000"/>
              <a:ext cx="9144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苹果" descr=""/>
            <p:cNvPicPr/>
            <p:nvPr/>
          </p:nvPicPr>
          <p:blipFill>
            <a:blip r:embed="rId9"/>
            <a:stretch/>
          </p:blipFill>
          <p:spPr>
            <a:xfrm>
              <a:off x="3505320" y="3429000"/>
              <a:ext cx="91440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香蕉" descr=""/>
          <p:cNvPicPr/>
          <p:nvPr/>
        </p:nvPicPr>
        <p:blipFill>
          <a:blip r:embed="rId10"/>
          <a:stretch/>
        </p:blipFill>
        <p:spPr>
          <a:xfrm>
            <a:off x="228600" y="5029200"/>
            <a:ext cx="1523880" cy="98892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2133720" y="4724280"/>
            <a:ext cx="2286000" cy="1208160"/>
            <a:chOff x="2133720" y="4724280"/>
            <a:chExt cx="2286000" cy="1208160"/>
          </a:xfrm>
        </p:grpSpPr>
        <p:pic>
          <p:nvPicPr>
            <p:cNvPr id="147" name="香蕉" descr=""/>
            <p:cNvPicPr/>
            <p:nvPr/>
          </p:nvPicPr>
          <p:blipFill>
            <a:blip r:embed="rId11"/>
            <a:stretch/>
          </p:blipFill>
          <p:spPr>
            <a:xfrm>
              <a:off x="2133720" y="5257800"/>
              <a:ext cx="114300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香蕉" descr=""/>
            <p:cNvPicPr/>
            <p:nvPr/>
          </p:nvPicPr>
          <p:blipFill>
            <a:blip r:embed="rId12"/>
            <a:stretch/>
          </p:blipFill>
          <p:spPr>
            <a:xfrm>
              <a:off x="3276720" y="5257800"/>
              <a:ext cx="114300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香蕉" descr=""/>
            <p:cNvPicPr/>
            <p:nvPr/>
          </p:nvPicPr>
          <p:blipFill>
            <a:blip r:embed="rId13"/>
            <a:stretch/>
          </p:blipFill>
          <p:spPr>
            <a:xfrm>
              <a:off x="2743200" y="4724280"/>
              <a:ext cx="114300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4786920" y="212400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7160" y="213372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p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85840" y="3571920"/>
            <a:ext cx="13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p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30120" y="365760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p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62520" y="524844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n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30120" y="5257800"/>
            <a:ext cx="21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ban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0" y="990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up of t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209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35053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lass of 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4952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茶" descr=""/>
          <p:cNvPicPr/>
          <p:nvPr/>
        </p:nvPicPr>
        <p:blipFill>
          <a:blip r:embed="rId1"/>
          <a:stretch/>
        </p:blipFill>
        <p:spPr>
          <a:xfrm>
            <a:off x="2895480" y="6094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162" name="咖啡" descr=""/>
          <p:cNvPicPr/>
          <p:nvPr/>
        </p:nvPicPr>
        <p:blipFill>
          <a:blip r:embed="rId2"/>
          <a:stretch/>
        </p:blipFill>
        <p:spPr>
          <a:xfrm>
            <a:off x="1981080" y="19810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163" name="水" descr=""/>
          <p:cNvPicPr/>
          <p:nvPr/>
        </p:nvPicPr>
        <p:blipFill>
          <a:blip r:embed="rId3"/>
          <a:stretch/>
        </p:blipFill>
        <p:spPr>
          <a:xfrm>
            <a:off x="3886200" y="2895480"/>
            <a:ext cx="1295280" cy="1905120"/>
          </a:xfrm>
          <a:prstGeom prst="rect">
            <a:avLst/>
          </a:prstGeom>
          <a:ln w="0">
            <a:noFill/>
          </a:ln>
        </p:spPr>
      </p:pic>
      <p:pic>
        <p:nvPicPr>
          <p:cNvPr id="164" name="水" descr=""/>
          <p:cNvPicPr/>
          <p:nvPr/>
        </p:nvPicPr>
        <p:blipFill>
          <a:blip r:embed="rId4"/>
          <a:stretch/>
        </p:blipFill>
        <p:spPr>
          <a:xfrm>
            <a:off x="2666880" y="4343400"/>
            <a:ext cx="1295640" cy="1905120"/>
          </a:xfrm>
          <a:prstGeom prst="rect">
            <a:avLst/>
          </a:prstGeom>
          <a:ln w="0">
            <a:noFill/>
          </a:ln>
        </p:spPr>
      </p:pic>
      <p:pic>
        <p:nvPicPr>
          <p:cNvPr id="165" name="PE03553_" descr=""/>
          <p:cNvPicPr/>
          <p:nvPr/>
        </p:nvPicPr>
        <p:blipFill>
          <a:blip r:embed="rId5"/>
          <a:stretch/>
        </p:blipFill>
        <p:spPr>
          <a:xfrm>
            <a:off x="685800" y="3200400"/>
            <a:ext cx="1981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/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定冠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数名词单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a pear     a bottle      an ap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ttle of water      a cup of t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形容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可数名词复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不可数名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ome pears         some ap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water           some tea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914400"/>
            <a:ext cx="76212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BD04915_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不可数名词量的表达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修饰不可数名词。表示量的多少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如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ea,some bread,some m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数量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+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可数名词，表示具体的量。常用的词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p,glass,bottle,pie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如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ttle of orang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pieces of m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838080"/>
            <a:ext cx="762120" cy="76212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BD04915_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2T14:45:33Z</dcterms:created>
  <dc:creator>dd</dc:creator>
  <dc:description/>
  <dc:language>en-US</dc:language>
  <cp:lastModifiedBy>jinke</cp:lastModifiedBy>
  <dcterms:modified xsi:type="dcterms:W3CDTF">2001-03-27T06:01:30Z</dcterms:modified>
  <cp:revision>25</cp:revision>
  <dc:subject/>
  <dc:title>Unit 19 Food and drink</dc:title>
</cp:coreProperties>
</file>